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0CF8-8399-4AEE-8E1B-E89351498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AC13-0F64-42CC-A112-1EBB3FD46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2C60-9BE4-4238-A249-5910E46C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DA42-357A-43EA-99F1-6DA89FCAE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8627-CC8C-47C7-AE9C-7A475533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0A80-FBAE-45FC-805A-620DC3C7F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4B76-A14C-467D-99AC-445EDB2E1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FE72-DE03-4F70-AEF6-85CECA17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2B2E-9411-4F23-8D41-B8F822D7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572B3-F979-4F9D-B425-DBF851E1D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84DB-82A5-4B05-B018-01C58934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13E-E160-473D-BAA2-5D315082F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009A47-9116-4EFA-81BD-DC4460409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nité 2 : Cris et friss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BIN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440" y="5504040"/>
            <a:ext cx="54864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ff0000"/>
                </a:solidFill>
                <a:latin typeface="Calibri"/>
              </a:rPr>
              <a:t>un témoin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Placeholder 7" descr="coupable.jpeg"/>
          <p:cNvPicPr/>
          <p:nvPr/>
        </p:nvPicPr>
        <p:blipFill>
          <a:blip r:embed="rId1"/>
          <a:stretch/>
        </p:blipFill>
        <p:spPr>
          <a:xfrm>
            <a:off x="2481120" y="1116000"/>
            <a:ext cx="4503960" cy="3541680"/>
          </a:xfrm>
          <a:prstGeom prst="rect">
            <a:avLst/>
          </a:prstGeom>
          <a:ln w="0">
            <a:noFill/>
          </a:ln>
        </p:spPr>
      </p:pic>
      <p:sp>
        <p:nvSpPr>
          <p:cNvPr id="69" name="Title 4"/>
          <p:cNvSpPr/>
          <p:nvPr/>
        </p:nvSpPr>
        <p:spPr>
          <a:xfrm>
            <a:off x="1792440" y="4657680"/>
            <a:ext cx="54864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440" y="5504040"/>
            <a:ext cx="54864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ff0000"/>
                </a:solidFill>
                <a:latin typeface="Calibri"/>
              </a:rPr>
              <a:t>anxieux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Placeholder 7" descr="coupable.jpeg"/>
          <p:cNvPicPr/>
          <p:nvPr/>
        </p:nvPicPr>
        <p:blipFill>
          <a:blip r:embed="rId1"/>
          <a:stretch/>
        </p:blipFill>
        <p:spPr>
          <a:xfrm>
            <a:off x="2900520" y="763560"/>
            <a:ext cx="3611520" cy="4181400"/>
          </a:xfrm>
          <a:prstGeom prst="rect">
            <a:avLst/>
          </a:prstGeom>
          <a:ln w="0">
            <a:noFill/>
          </a:ln>
        </p:spPr>
      </p:pic>
      <p:sp>
        <p:nvSpPr>
          <p:cNvPr id="72" name="Title 4"/>
          <p:cNvSpPr/>
          <p:nvPr/>
        </p:nvSpPr>
        <p:spPr>
          <a:xfrm>
            <a:off x="1792440" y="4657680"/>
            <a:ext cx="54864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440" y="5504040"/>
            <a:ext cx="54864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100" spc="-1" strike="noStrike">
                <a:solidFill>
                  <a:srgbClr val="ff0000"/>
                </a:solidFill>
                <a:latin typeface="Calibri"/>
              </a:rPr>
              <a:t>un faux-</a:t>
            </a:r>
            <a:r>
              <a:rPr b="1" lang="fr-CA" sz="3100" spc="-1" strike="noStrike">
                <a:solidFill>
                  <a:srgbClr val="ff0000"/>
                </a:solidFill>
                <a:latin typeface="Calibri"/>
              </a:rPr>
              <a:t>monnayeu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Placeholder 7" descr="coupable.jpeg"/>
          <p:cNvPicPr/>
          <p:nvPr/>
        </p:nvPicPr>
        <p:blipFill>
          <a:blip r:embed="rId1"/>
          <a:stretch/>
        </p:blipFill>
        <p:spPr>
          <a:xfrm>
            <a:off x="2328840" y="442800"/>
            <a:ext cx="4950000" cy="4772160"/>
          </a:xfrm>
          <a:prstGeom prst="rect">
            <a:avLst/>
          </a:prstGeom>
          <a:ln w="0">
            <a:noFill/>
          </a:ln>
        </p:spPr>
      </p:pic>
      <p:sp>
        <p:nvSpPr>
          <p:cNvPr id="75" name="Title 4"/>
          <p:cNvSpPr/>
          <p:nvPr/>
        </p:nvSpPr>
        <p:spPr>
          <a:xfrm>
            <a:off x="1792440" y="4944960"/>
            <a:ext cx="54864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9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509920" y="1262160"/>
            <a:ext cx="4051080" cy="2997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une émission de télévi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400480" y="1270080"/>
            <a:ext cx="4352760" cy="328428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avoir la chair de po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328840" y="1004760"/>
            <a:ext cx="4367160" cy="37958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3200" spc="-1" strike="noStrike">
                <a:solidFill>
                  <a:srgbClr val="ff0000"/>
                </a:solidFill>
                <a:latin typeface="Calibri"/>
              </a:rPr>
              <a:t>cri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481120" y="1695600"/>
            <a:ext cx="4233960" cy="2633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un jeu électronique / un jeu vidé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3200" spc="-1" strike="noStrike">
                <a:solidFill>
                  <a:srgbClr val="ff0000"/>
                </a:solidFill>
                <a:latin typeface="Calibri"/>
              </a:rPr>
              <a:t>un écr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Placeholder 6" descr="un bruit.jpeg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440" y="5504040"/>
            <a:ext cx="54864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ff0000"/>
                </a:solidFill>
                <a:latin typeface="Calibri"/>
              </a:rPr>
              <a:t>un mot de pass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Placeholder 7" descr="coupable.jpeg"/>
          <p:cNvPicPr/>
          <p:nvPr/>
        </p:nvPicPr>
        <p:blipFill>
          <a:blip r:embed="rId1"/>
          <a:stretch/>
        </p:blipFill>
        <p:spPr>
          <a:xfrm>
            <a:off x="3257640" y="763560"/>
            <a:ext cx="2896920" cy="4181400"/>
          </a:xfrm>
          <a:prstGeom prst="rect">
            <a:avLst/>
          </a:prstGeom>
          <a:ln w="0">
            <a:noFill/>
          </a:ln>
        </p:spPr>
      </p:pic>
      <p:sp>
        <p:nvSpPr>
          <p:cNvPr id="93" name="Title 4"/>
          <p:cNvSpPr/>
          <p:nvPr/>
        </p:nvSpPr>
        <p:spPr>
          <a:xfrm>
            <a:off x="1792440" y="4944960"/>
            <a:ext cx="54864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9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440" y="5504040"/>
            <a:ext cx="54864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ff0000"/>
                </a:solidFill>
                <a:latin typeface="Calibri"/>
              </a:rPr>
              <a:t>redémarrer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Placeholder 7" descr="coupable.jpeg"/>
          <p:cNvPicPr/>
          <p:nvPr/>
        </p:nvPicPr>
        <p:blipFill>
          <a:blip r:embed="rId1"/>
          <a:stretch/>
        </p:blipFill>
        <p:spPr>
          <a:xfrm>
            <a:off x="2270160" y="1712880"/>
            <a:ext cx="5008680" cy="2963880"/>
          </a:xfrm>
          <a:prstGeom prst="rect">
            <a:avLst/>
          </a:prstGeom>
          <a:ln w="0">
            <a:noFill/>
          </a:ln>
        </p:spPr>
      </p:pic>
      <p:sp>
        <p:nvSpPr>
          <p:cNvPr id="96" name="Title 4"/>
          <p:cNvSpPr/>
          <p:nvPr/>
        </p:nvSpPr>
        <p:spPr>
          <a:xfrm>
            <a:off x="1792440" y="4944960"/>
            <a:ext cx="548640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3073320" y="612720"/>
            <a:ext cx="2924280" cy="4114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n(e) détect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3036960" y="1262160"/>
            <a:ext cx="2997000" cy="2997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n</a:t>
            </a: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 fichi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495520" y="720720"/>
            <a:ext cx="4079880" cy="40798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un logici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12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3000" spc="-1" strike="noStrike">
                <a:solidFill>
                  <a:srgbClr val="ff0000"/>
                </a:solidFill>
                <a:latin typeface="Calibri"/>
              </a:rPr>
              <a:t>le courrier électroniqu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3000" spc="-1" strike="noStrike">
                <a:solidFill>
                  <a:srgbClr val="ff0000"/>
                </a:solidFill>
                <a:latin typeface="Calibri"/>
              </a:rPr>
              <a:t>(electronic messaging, i.e. email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Placeholder 6" descr="un bruit.jpeg"/>
          <p:cNvPicPr/>
          <p:nvPr/>
        </p:nvPicPr>
        <p:blipFill>
          <a:blip r:embed="rId1"/>
          <a:stretch/>
        </p:blipFill>
        <p:spPr>
          <a:xfrm>
            <a:off x="1792440" y="622440"/>
            <a:ext cx="5486400" cy="416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462040" y="654120"/>
            <a:ext cx="4291200" cy="41464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méch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941560" y="1166760"/>
            <a:ext cx="3187800" cy="3187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une cl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997360" y="1251000"/>
            <a:ext cx="3429000" cy="35496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les tal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Le lieu du crime / La scène du cr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Placeholder 6" descr="le lieu de crime.jpeg"/>
          <p:cNvPicPr/>
          <p:nvPr/>
        </p:nvPicPr>
        <p:blipFill>
          <a:blip r:embed="rId1"/>
          <a:srcRect l="0" t="-39" r="0" b="-39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521080" y="1168560"/>
            <a:ext cx="4097160" cy="3632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les ind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3073320" y="712800"/>
            <a:ext cx="2924280" cy="3914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une empreinte digita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193840" y="1227240"/>
            <a:ext cx="4656240" cy="357336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une empreinte de pi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Placeholder 4" descr="crime scene.jpg"/>
          <p:cNvPicPr/>
          <p:nvPr/>
        </p:nvPicPr>
        <p:blipFill>
          <a:blip r:embed="rId1"/>
          <a:stretch/>
        </p:blipFill>
        <p:spPr>
          <a:xfrm>
            <a:off x="2878200" y="1227240"/>
            <a:ext cx="3287520" cy="357336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2800" spc="-1" strike="noStrike">
                <a:solidFill>
                  <a:srgbClr val="ff0000"/>
                </a:solidFill>
                <a:latin typeface="Calibri"/>
              </a:rPr>
              <a:t>un voleur/une vole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2440" y="5504040"/>
            <a:ext cx="548640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ff0000"/>
                </a:solidFill>
                <a:latin typeface="Calibri"/>
              </a:rPr>
              <a:t>un(e) coupable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Placeholder 7" descr="coupable.jpeg"/>
          <p:cNvPicPr/>
          <p:nvPr/>
        </p:nvPicPr>
        <p:blipFill>
          <a:blip r:embed="rId1"/>
          <a:srcRect l="-824" t="0" r="-824" b="0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3" name="Title 4"/>
          <p:cNvSpPr/>
          <p:nvPr/>
        </p:nvSpPr>
        <p:spPr>
          <a:xfrm>
            <a:off x="1792440" y="4657680"/>
            <a:ext cx="54864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CA" sz="31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9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CA" sz="3200" spc="-1" strike="noStrike">
                <a:solidFill>
                  <a:srgbClr val="ff0000"/>
                </a:solidFill>
                <a:latin typeface="Calibri"/>
              </a:rPr>
              <a:t>interro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Placeholder 6" descr="un bruit.jpeg"/>
          <p:cNvPicPr/>
          <p:nvPr/>
        </p:nvPicPr>
        <p:blipFill>
          <a:blip r:embed="rId1"/>
          <a:stretch/>
        </p:blipFill>
        <p:spPr>
          <a:xfrm>
            <a:off x="2208240" y="612720"/>
            <a:ext cx="465444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16:07:09Z</dcterms:created>
  <dc:creator>Vanessa Graymason</dc:creator>
  <dc:description/>
  <dc:language>en-US</dc:language>
  <cp:lastModifiedBy>Sarah</cp:lastModifiedBy>
  <dcterms:modified xsi:type="dcterms:W3CDTF">2012-04-27T04:26:19Z</dcterms:modified>
  <cp:revision>29</cp:revision>
  <dc:subject/>
  <dc:title>Unité 2 : Cris et frisson</dc:title>
</cp:coreProperties>
</file>